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FC3-647F-405A-84FD-B1851AAB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761-6615-4162-B5BD-08359637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729-8664-4B9F-B1D4-B358C13C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73B-7C2B-4A15-BB77-46CB26C8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EE49-7AEF-4224-8672-E73D60D7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7E34-C5CE-4FDF-8168-CB98C46F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759A-FCB8-4B84-9903-A4EF4874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2EA6-D79A-45AC-AE9C-924C8A9D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25CF-D498-4BC1-BDB4-F46FA806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CBEE-8F8A-4AAB-B503-28A2C147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DB51-8396-4813-BB98-C2F085A6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87F-B12F-4ACB-9578-1507B503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DA3A-3851-4FB3-AB89-6CE8ABCA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02B2-49DA-489B-A0B1-8155D52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1662-467B-4EEB-B7D3-A5344714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2A17-A960-42D4-9B9C-B1370DB1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23E6-352D-4402-A88D-0ABEB2EC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36A-FA2D-4F81-91C9-C8D6B93C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20F-D4C2-4E63-BE50-851B5A15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672-3F49-4C7C-9B53-E3A91D2C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14A-DEB8-47D4-8B29-4B910DBE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154-6E27-4259-B749-EDD638A8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391-15F9-4F9C-B10B-653FD246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068-E805-4E9D-B155-685B41FE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3064-D121-411A-8A96-21095DFE1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FA3A-28E0-4011-A6D7-E76F5C772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7;&#1072;&#1082;&#1072;&#1079;&#1085;&#1080;&#1082;%20&#1052;&#1096;&#1080;&#1085;&#1089;&#1082;&#1086;&#1077;%20&#1073;&#1086;&#1083;&#1086;&#1090;&#1086;.ppt" TargetMode="External"/><Relationship Id="rId2" Type="http://schemas.openxmlformats.org/officeDocument/2006/relationships/hyperlink" Target="file:///&#1047;&#1072;&#1082;&#1072;&#1079;&#1085;&#1080;&#1082;%20&#1052;&#1096;&#1080;&#1085;&#1089;&#1082;&#1086;&#1077;%20&#1073;&#1086;&#1083;&#1086;&#1090;&#1086;.ppt" TargetMode="External"/><Relationship Id="rId3" Type="http://schemas.openxmlformats.org/officeDocument/2006/relationships/hyperlink" Target="file:///&#1047;&#1072;&#1082;&#1072;&#1079;&#1085;&#1080;&#1082;%20&#1052;&#1096;&#1080;&#1085;&#1089;&#1082;&#1086;&#1077;%20&#1073;&#1086;&#1083;&#1086;&#1090;&#1086;.ppt" TargetMode="External"/><Relationship Id="rId4" Type="http://schemas.openxmlformats.org/officeDocument/2006/relationships/hyperlink" Target="file:///&#1047;&#1072;&#1082;&#1072;&#1079;&#1085;&#1080;&#1082;%20&#1052;&#1096;&#1080;&#1085;&#1089;&#1082;&#1086;&#1077;%20&#1073;&#1086;&#1083;&#1086;&#1090;&#1086;.ppt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57;&#1072;&#1073;&#1083;&#1080;&#1085;&#1086;.ppt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77;&#1087;&#1089;&#1089;&#1082;&#1080;&#1081;%20&#1083;&#1077;&#1089;.ppt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3;&#1080;&#1078;&#1085;&#1077;-&#1089;&#1074;&#1080;&#1088;&#1089;&#1082;&#1080;&#1081;%20&#1079;&#1072;&#1087;&#1086;&#1074;&#1077;&#1076;&#1085;&#1080;&#1082;.ppt" TargetMode="External"/><Relationship Id="rId2" Type="http://schemas.openxmlformats.org/officeDocument/2006/relationships/hyperlink" Target="file:///&#1053;&#1080;&#1078;&#1085;&#1077;-&#1089;&#1074;&#1080;&#1088;&#1089;&#1082;&#1080;&#1081;%20&#1079;&#1072;&#1087;&#1086;&#1074;&#1077;&#1076;&#1085;&#1080;&#1082;.ppt" TargetMode="External"/><Relationship Id="rId3" Type="http://schemas.openxmlformats.org/officeDocument/2006/relationships/hyperlink" Target="file:///&#1053;&#1080;&#1078;&#1085;&#1077;-&#1089;&#1074;&#1080;&#1088;&#1089;&#1082;&#1080;&#1081;%20&#1079;&#1072;&#1087;&#1086;&#1074;&#1077;&#1076;&#1085;&#1080;&#1082;.ppt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316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24000" y="692280"/>
            <a:ext cx="8820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обо охраняе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род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рри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ООПТ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нинград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advTm="3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851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ff"/>
                </a:solidFill>
                <a:uFillTx/>
                <a:latin typeface="Arial Black"/>
                <a:hlinkClick r:id="rId1"/>
              </a:rPr>
              <a:t>Мшинское</a:t>
            </a:r>
            <a:r>
              <a:rPr b="1" lang="ru-RU" sz="4000" spc="-1" strike="noStrike" u="sng">
                <a:solidFill>
                  <a:srgbClr val="0066ff"/>
                </a:solidFill>
                <a:uFillTx/>
                <a:latin typeface="Arial Black"/>
                <a:hlinkClick r:id="rId2"/>
              </a:rPr>
              <a:t> болото _x000b_</a:t>
            </a:r>
            <a:r>
              <a:rPr b="1" lang="ru-RU" sz="2400" spc="-1" strike="noStrike" u="sng">
                <a:solidFill>
                  <a:srgbClr val="0066ff"/>
                </a:solidFill>
                <a:uFillTx/>
                <a:latin typeface="Arial Black"/>
                <a:hlinkClick r:id="rId3"/>
              </a:rPr>
              <a:t>природный заказник федерального значения</a:t>
            </a:r>
            <a:r>
              <a:rPr b="1" lang="ru-RU" sz="4000" spc="-1" strike="noStrike" u="sng">
                <a:solidFill>
                  <a:srgbClr val="0066ff"/>
                </a:solidFill>
                <a:uFillTx/>
                <a:latin typeface="Arial Black"/>
                <a:hlinkClick r:id="rId4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305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а создания: 30 августа 198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графическое положение: заказник расположен на водоразделе рек Оредеж и Ящера, на территории Лужского и Гатчинского районов Ленинград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: 60 400 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создания: сохранение болотного комплекса озер и водотоков с окрестными лесами, сохранение и воспроизводство естественной (природной) флоры и фауны, создание благоприятных условий для пролетных и местных водоплавающих птиц во время миграций, сохранение и восстановление численности редких и исчезающих видов животных и растен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объекты охраны: скопа, беркут, черный аист, чернозобая гагара, лебедь-кликун, большой кроншнеп, филин, белый аист, выпь; башмачок настоящий, лосняк Лозеля, пальцекорник Трауштейн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 Black"/>
              </a:rPr>
              <a:t>Памятники природ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ятники природы представляют собой уникальные, невосполнимые, ценные в экологическом, научном, культурном и эстетическом отношениях природные комплексы, а также объекты естественного и искусственного происхождения, например, пещеры, скалы, водопады, рощи редких пород деревьев, урочища, долины рек, озера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землепользователей эти территории, как правило, не изым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енобласти расположено 14 памятников прир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еологические обнажения девонских и ордовикских пород на р.Саба, геологические обнажения девона на р.Оредеж у пос. Ям-Тесово, геологические обнажения девона и штольни на р.Оредеж у дер. Борщево, истоки р. Оредеж в Ур. Донцо, каньон реки Лава, обнажения девона на р.Оредеж у пос. Белогорка, озеро Красное, озеро Ястребиное, комплексный памятник природы урочище Донцо, радоновые источники и озера у пос. Лопухинка, река Рагуша, Саблинский, реликтовые песчаные дюны «Лисьи горы» у северной конечности болота «Пятницкий мох», остров Густ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 Black"/>
                <a:hlinkClick r:id="rId1"/>
              </a:rPr>
              <a:t>Саблинский памятник природы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803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блинский памятник природы является комплексным и включает в себя геологические, ботанические и биологические объекты, на его территории находятся памятники природы, истории и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логические достопримечательности — пещеры, десятки километров подземных лабиринтов коридоров с озерами, громадными залами. Пещеры — старые выработки, в которых более 150 лет добывался чистый кварцевый песок для нужд стекольной промыш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кальны природные объекты: два водопада - Саблинский и Тосненский, каньоны рек Саблинки и Тосны, скальные геологические обнажения кембрийских и ордовикских песчаников, залежи целебных г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находятся более десяти искусственных пещер, древние курганы, хуторок Пустынька на берегу реки Тосны, где располагалась усадьба графа А. К. Толстого — замечательного историка, писателя, поэта, драматурга, дом которого был построен по проекту архитектора Растрелли, площадка, на которой стоял лагерем перед битвой со шведами князь Александр 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 Black"/>
              </a:rPr>
              <a:t>Природные парки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родные парки являются природоохранными и рекреационными учрежд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их задачи входит сохранение природных ландшафтов и их рекреационных ресурсов, создание условий для отдыха, разработка и внедрение эффективных методов охраны природы в условиях рекреационного исполь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правило, природные парки располагаются на землях, предоставленных им в бессрочное пользование, в отдельных случаях - на территориях иных земле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иродных парках имеется специальный штат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Ленинградской области расположен один природный парк - «Вепсский лес», включающий семь резерватов (зон с особыми режимами охра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 Black"/>
                <a:hlinkClick r:id="rId1"/>
              </a:rPr>
              <a:t>Вепсский лес_x000b_природный парк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50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родный парк «Вепсский лес» - своеобразный музей под открытым небом, сохранившие нетронутые цивилизацией ландшафты, коренные леса, чистые озера и реки, памятники деревянного зодчества, традиционную культуру и ремес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родный парк «Вепсский лес» расположен на северо-востоке Ленинградской области, на водоразделе рек Балтийского и Каспийского водосборных бассей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вание парк получил от народа вепсы, проживающего на этой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обо охраняемая природная территория регионального значения площадью 190 тыс. 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зован в 1999 году Правительством Ленинград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ые задачи природного парка - охрана уникальной природы этих мест, сохранение, изучение и возрождение вепсской культуры, создание условий для туризма и отдыха на живописной, экологически чистой территории, проведение научных исследований и организация экологического воспитания населения и посетителей п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316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24000" y="692280"/>
            <a:ext cx="8820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обо охраняе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род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рри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ООПТ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нинград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 Black"/>
              </a:rPr>
              <a:t>Природа Ленинградской  области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нинградская область представляет собой один из интереснейших регионов с геоморфологической, зоологической и флористическ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четание разнообразных лесных массивов, верховых и низинных болот, обширных водных пространств и прибрежных зон обуславливает видовое богатство растительного и животного мира, а также многообразие природных комплек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 Ленинградской областью пролегает одна из основных трасс пролетного пути, по которому ежегодно весной и осенью путешествуют миллионы птиц. На мелководьях Финского залива, Ладоги и многочисленных озер располагаются традиционные места их стоя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области можно встретить редкие виды растений и животных - венерин башмачок, прострел обыкновенный, скопа, ладожская нерпа и многие другие, интереснейшие геологические и гидрологические объекты - обнажения древних пород, скалы, пещеры, моренные гряды, ледниковые 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дивительно разнообразны и ее ландшафты - моренные долины, каньоны рек, равнины с холмистыми возвышенностями, шхеры Выборгского залива и северной Ладог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 Black"/>
              </a:rPr>
              <a:t>Природа Ленинградской области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55640" y="1197000"/>
            <a:ext cx="4505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кальная, богатая и многоликая природа Ленинградской области требует бережного отношения. Природоохранные задачи приобретают приоритетную роль в условиях бурно развивающейся экономики области, ведь интенсивное промышленное, сельскохозяйственное и рекреационное освоение региона ведет к тому, что давление на природу возрастает с каждым г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еализации стратегии устойчивого развития, позволяющей непротиворечиво совместить экономическое процветание и сохранение природных ценностей, необходим целый комплекс природоохранных мер, важнейшим компонентом которого является система особо охраняемых природных территорий, сокращенно - ООП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3457800" cy="2595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26920" y="3789360"/>
            <a:ext cx="3457800" cy="284004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964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 Black"/>
              </a:rPr>
              <a:t>Природа Ленинградской области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87640" y="1413000"/>
            <a:ext cx="3887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представляют собой участки с ценными природн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омощью ООПТ люди пытаются сохранить редкие и типичные участки лесов, лугов, болот, водоемов и других экосистем, редкие и массовые виды растений и животных в их естественной среде обитания, традиционные трассы пролета и зимовок птиц, пути прохода и нерестилища рыб и другие природные явления и 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а ООПТ приобретает особенную важность в регионах с сильной антропогенной нагруз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4360" y="1241280"/>
            <a:ext cx="3671640" cy="2684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4360" y="4208400"/>
            <a:ext cx="3671640" cy="245448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 Black"/>
              </a:rPr>
              <a:t>Особо охраняемые </a:t>
            </a:r>
            <a:br>
              <a:rPr sz="3200"/>
            </a:br>
            <a:r>
              <a:rPr b="1" lang="en-US" sz="3200" spc="-1" strike="noStrike">
                <a:solidFill>
                  <a:srgbClr val="008080"/>
                </a:solidFill>
                <a:latin typeface="Arial Black"/>
              </a:rPr>
              <a:t>природные территории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2920" y="1557000"/>
            <a:ext cx="4202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Ленинградской области расположено 40 ООП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умме они занимают площадь 570 тысяч га, что составляет около 6% территории реги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положенные в пределах Ленинградской области ООПТ относятся к четырем категориям: заповедники, природные парки, заказники и памятники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ОПТ различных категорий отличаются по целям создания, площади, природоохранным регламентам, наличию или отсутствию собственного штата сотру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600360" cy="2647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5640" y="4221000"/>
            <a:ext cx="3675240" cy="240984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 Black"/>
              </a:rPr>
              <a:t>Особо охраняемые</a:t>
            </a:r>
            <a:br>
              <a:rPr sz="3600"/>
            </a:br>
            <a:r>
              <a:rPr b="1" lang="en-US" sz="3600" spc="-1" strike="noStrike">
                <a:solidFill>
                  <a:srgbClr val="008080"/>
                </a:solidFill>
                <a:latin typeface="Arial Black"/>
              </a:rPr>
              <a:t> природные территории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40 территорий Ленинградской обла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имеют федеральное значение «Государственный природный заповедник Нижне-Свирский» и заказник «Мшинское бо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8 территории имеют статус  регионального 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территорий имеют  статус водно-болотных угодий международного значения, в их пределах действует особый, дополнительный режим охраны, связанный с их важной ролью в качестве местообитаний водоплавающих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 Black"/>
              </a:rPr>
              <a:t>Заповедники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2920" y="1484280"/>
            <a:ext cx="4202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шей категорией ООПТ являются заповедники, объектом охраны в которых являются все природные комплек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имеют научный штат и штат ох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емли заповедников изымаются у землепользователей, то есть, на них запрещена любая хозяйственн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поведниках действуют ограничения на посе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Ленинградской области находится всего один заповедник - «Нижне-Свирск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3889440" cy="2522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816360" cy="266544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ff"/>
                </a:solidFill>
                <a:uFillTx/>
                <a:latin typeface="Arial Black"/>
                <a:hlinkClick r:id="rId1"/>
              </a:rPr>
              <a:t>Нижне-Свирский</a:t>
            </a:r>
            <a:r>
              <a:rPr b="1" lang="ru-RU" sz="3600" spc="-1" strike="noStrike" u="sng">
                <a:solidFill>
                  <a:srgbClr val="0066ff"/>
                </a:solidFill>
                <a:uFillTx/>
                <a:latin typeface="Arial Black"/>
                <a:hlinkClick r:id="rId2"/>
              </a:rPr>
              <a:t> _x000b_</a:t>
            </a:r>
            <a:r>
              <a:rPr b="1" lang="ru-RU" sz="2800" spc="-1" strike="noStrike" u="sng">
                <a:solidFill>
                  <a:srgbClr val="0066ff"/>
                </a:solidFill>
                <a:uFillTx/>
                <a:latin typeface="Arial Black"/>
                <a:hlinkClick r:id="rId3"/>
              </a:rPr>
              <a:t>государственный природный заповедник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бъект РФ:  Ленинградская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создания: 11 июня 1980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ждународный статус: Территория заповедника отнесена к водно-болотным угодьям международного значения в качестве гнездовых местообитаний и пролетных скоплений водоплавающих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ая площадь:  41615 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т.ч. площадь акватории: 5176 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чество участков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 Black"/>
              </a:rPr>
              <a:t>Заказники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ники создаются с целью сохранения или восстановления нескольких или всех компонентов природы и поддержания общего экологического баланса. На их территориях ограничены некоторые виды хозяйственной деятельности. Земли заказников, как правило, не изымаются у земле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ники могут иметь различный профиль. Комплексные заказники предназначены для сохранения и восстановления природных комплек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логические (ботанические или зоологические) заказники предназначены для сохранения и восстановления редких и исчезающих видов растений 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леонтологические - для сохранения ископаемых 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дрологические (болотные, озерные, речные, морские) заказники служат для сохранения и восстановления ценных водных объектов и экологически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ологические - для сохранения ценных объектов и комплексов неживой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 категория ООПТ наиболее широко представлена в Ленинградской области, всего их 23, причем заказник «Лебяжий» создан в 2007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1:23:04Z</dcterms:created>
  <dc:creator>Acer</dc:creator>
  <dc:description/>
  <dc:language>en-US</dc:language>
  <cp:lastModifiedBy>Acer</cp:lastModifiedBy>
  <dcterms:modified xsi:type="dcterms:W3CDTF">2010-02-01T03:17:57Z</dcterms:modified>
  <cp:revision>10</cp:revision>
  <dc:subject/>
  <dc:title>Особо охраняемые природные территории (ООПТ) Ленинградской области </dc:title>
</cp:coreProperties>
</file>